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jep3.wav" ContentType="audio/x-wav"/>
  <Override PartName="/ppt/media/Jeopardy.wav" ContentType="audio/x-wav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303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87C1-5F5F-4A5C-AF3A-F1A7FBCE5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2CC-2CF3-4172-8FBA-C0B209A67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2891-8AFB-437B-A5F3-E206C1B97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02D0-FF80-4D72-AB3A-274158153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3F88-2EDA-4670-8AC7-8FB7E6AD4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5802-409B-408D-B753-81B5D961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E370-5627-4EAC-B295-E4671E9ED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C66B-993A-42AC-B6A8-5B925750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FF5B-3BF8-4D56-8BF1-92FF831C5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9361-54C2-46D8-A75B-BD1B1B66E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6F8A-D7C8-496E-8C41-2314EE2AA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E017-78C8-4F1E-AD53-0EF08B62F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2438-8956-4D21-B5F9-A09F84FD0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CF6F-F0CB-48C9-A39C-0F04B665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2241-36A0-4B6C-BC40-3ADED104C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5499-1D01-44E7-AC80-1E457F2EE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DBFE-4A63-4592-8DE3-139252DC5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B3D3-EBA2-4B4F-BD63-9556DDA51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8A56-D7B1-4CBF-8076-86A942831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906E-7952-430D-A417-D04DD2F8B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26BA-B571-4783-A2CB-86AE8CDEB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DE72-BCC1-4FBF-B03B-050242E31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436E-C417-465C-AF23-7CE56AFBB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690-AB92-4FD2-B12A-8DFB9241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ABA4-8FE0-4B20-986A-BF4CEF45C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3D5-6ED6-46EC-A8FC-F2B835E7B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EF5E-B027-46EE-B0E8-9E8488F37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67D0-7A60-457B-82A7-95094CF2F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AA81-805F-42CB-81A2-D3B59E06D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A0E3-DD51-4DC7-A0C6-227A7BDD7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AB37-B714-4418-8FD6-00B87F873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617B-45A1-4358-8DF3-E81E0CCF4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C344-7D5E-4BD9-B60F-37065FB32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B0D0-5862-4832-9799-4518A723E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7660-D031-4A45-B0CC-26942AA5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CC57-46E2-44A3-813A-C063DF86C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4EF7-7064-4DC1-825D-D4E94C9C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2FDF-AB77-4C5C-903E-2BDB09D7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F3D-2E68-476A-9843-6F3739272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5D78-CDAA-4C18-83CC-1CC0ECE84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45CC-12BF-46B1-9226-F7A0EA864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D1DD-FAFD-4931-AD35-8FB1D397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6FA9-890F-4FD9-8157-08B5CABA9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E33F-205A-4DFE-97BD-385D00A24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0E5F-972E-4010-9E1F-1DEA991EA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B8DC-B012-477E-AC1F-879FC3F3D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C83D-AF16-4347-AC9E-513FD85F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4267-1E16-44D9-AC28-EAEBF2D8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8CAA-5C36-4DE7-9AD6-6E4B56F9A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9363-F79E-46FE-85E2-C4B29266C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BF73-BA52-4011-ACBD-25F24BD3A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73A1-9188-41C5-BC5E-45904B5D4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CDE-0721-4C37-9935-9BB460F9B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B739-F17A-444D-B9C4-AE08FAF26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ADB5-6E84-4462-BDF6-38F6151F7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C7E6-57CB-4ECB-9B62-31AF9E142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253F-999B-4983-8F8E-1D99D5FEE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6794-5E05-4A88-8A97-CB583FF3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46CA-B382-43CD-A228-9B8A99122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1D5B-7074-4BC0-A3AF-A08C2B496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2DF4-2A95-46CB-B7B7-4E892750E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4923-A7F4-4DFE-9D9C-43C65B641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DFE8-9D34-438E-B45A-CEE13AA40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477-866E-4AE5-BDB3-656D81044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5D52-072F-4F05-B8B1-84122B12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8E3F-F1DF-4346-8416-9B20C0DB9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13D-F810-40C7-9D77-E2CF0CE75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F2FD-66FC-44E0-A6D2-77B193758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F20B-6558-46B5-9B4C-0E9458DF9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9395-0DE2-4EC7-9BEC-A4ED742F0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325-68E4-4EFD-A420-AE4DDF0F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C61-B4F0-4E0C-96C8-CAA0825D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5CF-70A5-4A31-BF91-5B1613D6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119-9E0C-440B-BE67-4625DAF3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33B-39D9-4612-AF42-CC7B5F27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071-59ED-41CD-8F17-108F595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815-0160-4BBC-80A0-2FB7D82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ADC-D0D9-498B-92B9-3F951BEE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4C8-5605-4456-99E5-BE6B67E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049-51CD-43EE-B789-186E1E9D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04A-70A9-47CE-898C-AE4D86D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516-047B-4C10-AA98-1514170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303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37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E930-6BB4-4918-8D71-51053CAEDEBF}" type="slidenum">
              <a:rPr b="0" lang="en-US" sz="1200" spc="-1" strike="noStrike">
                <a:solidFill>
                  <a:srgbClr val="08376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" Target="slide15.xml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" Target="slide25.xml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" Target="slide36.xml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slide" Target="slide46.xml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slide" Target="slide56.xml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slide" Target="slide7.xml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slide" Target="slide17.xml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slide" Target="slide27.xml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slide" Target="slide40.xml"/><Relationship Id="rId29" Type="http://schemas.openxmlformats.org/officeDocument/2006/relationships/image" Target="../media/image3.png"/><Relationship Id="rId30" Type="http://schemas.openxmlformats.org/officeDocument/2006/relationships/image" Target="../media/image2.png"/><Relationship Id="rId31" Type="http://schemas.openxmlformats.org/officeDocument/2006/relationships/slide" Target="slide48.xml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slide" Target="slide58.xml"/><Relationship Id="rId35" Type="http://schemas.openxmlformats.org/officeDocument/2006/relationships/image" Target="../media/image3.png"/><Relationship Id="rId36" Type="http://schemas.openxmlformats.org/officeDocument/2006/relationships/image" Target="../media/image2.png"/><Relationship Id="rId37" Type="http://schemas.openxmlformats.org/officeDocument/2006/relationships/slide" Target="slide9.xml"/><Relationship Id="rId38" Type="http://schemas.openxmlformats.org/officeDocument/2006/relationships/image" Target="../media/image3.png"/><Relationship Id="rId39" Type="http://schemas.openxmlformats.org/officeDocument/2006/relationships/image" Target="../media/image2.png"/><Relationship Id="rId40" Type="http://schemas.openxmlformats.org/officeDocument/2006/relationships/slide" Target="slide19.xml"/><Relationship Id="rId41" Type="http://schemas.openxmlformats.org/officeDocument/2006/relationships/image" Target="../media/image3.png"/><Relationship Id="rId42" Type="http://schemas.openxmlformats.org/officeDocument/2006/relationships/image" Target="../media/image2.png"/><Relationship Id="rId43" Type="http://schemas.openxmlformats.org/officeDocument/2006/relationships/slide" Target="slide29.xml"/><Relationship Id="rId44" Type="http://schemas.openxmlformats.org/officeDocument/2006/relationships/image" Target="../media/image3.png"/><Relationship Id="rId45" Type="http://schemas.openxmlformats.org/officeDocument/2006/relationships/image" Target="../media/image2.png"/><Relationship Id="rId46" Type="http://schemas.openxmlformats.org/officeDocument/2006/relationships/slide" Target="slide38.xml"/><Relationship Id="rId47" Type="http://schemas.openxmlformats.org/officeDocument/2006/relationships/image" Target="../media/image3.png"/><Relationship Id="rId48" Type="http://schemas.openxmlformats.org/officeDocument/2006/relationships/image" Target="../media/image2.png"/><Relationship Id="rId49" Type="http://schemas.openxmlformats.org/officeDocument/2006/relationships/slide" Target="slide50.xml"/><Relationship Id="rId50" Type="http://schemas.openxmlformats.org/officeDocument/2006/relationships/image" Target="../media/image3.png"/><Relationship Id="rId51" Type="http://schemas.openxmlformats.org/officeDocument/2006/relationships/image" Target="../media/image2.png"/><Relationship Id="rId52" Type="http://schemas.openxmlformats.org/officeDocument/2006/relationships/slide" Target="slide60.xml"/><Relationship Id="rId53" Type="http://schemas.openxmlformats.org/officeDocument/2006/relationships/image" Target="../media/image3.png"/><Relationship Id="rId54" Type="http://schemas.openxmlformats.org/officeDocument/2006/relationships/image" Target="../media/image2.png"/><Relationship Id="rId55" Type="http://schemas.openxmlformats.org/officeDocument/2006/relationships/slide" Target="slide11.xml"/><Relationship Id="rId56" Type="http://schemas.openxmlformats.org/officeDocument/2006/relationships/image" Target="../media/image3.png"/><Relationship Id="rId57" Type="http://schemas.openxmlformats.org/officeDocument/2006/relationships/image" Target="../media/image2.png"/><Relationship Id="rId58" Type="http://schemas.openxmlformats.org/officeDocument/2006/relationships/slide" Target="slide21.xml"/><Relationship Id="rId59" Type="http://schemas.openxmlformats.org/officeDocument/2006/relationships/image" Target="../media/image3.png"/><Relationship Id="rId60" Type="http://schemas.openxmlformats.org/officeDocument/2006/relationships/image" Target="../media/image2.png"/><Relationship Id="rId61" Type="http://schemas.openxmlformats.org/officeDocument/2006/relationships/slide" Target="slide31.xml"/><Relationship Id="rId62" Type="http://schemas.openxmlformats.org/officeDocument/2006/relationships/image" Target="../media/image3.png"/><Relationship Id="rId63" Type="http://schemas.openxmlformats.org/officeDocument/2006/relationships/image" Target="../media/image2.png"/><Relationship Id="rId64" Type="http://schemas.openxmlformats.org/officeDocument/2006/relationships/slide" Target="slide42.xml"/><Relationship Id="rId65" Type="http://schemas.openxmlformats.org/officeDocument/2006/relationships/image" Target="../media/image3.png"/><Relationship Id="rId66" Type="http://schemas.openxmlformats.org/officeDocument/2006/relationships/image" Target="../media/image2.png"/><Relationship Id="rId67" Type="http://schemas.openxmlformats.org/officeDocument/2006/relationships/slide" Target="slide52.xml"/><Relationship Id="rId68" Type="http://schemas.openxmlformats.org/officeDocument/2006/relationships/image" Target="../media/image3.png"/><Relationship Id="rId69" Type="http://schemas.openxmlformats.org/officeDocument/2006/relationships/image" Target="../media/image2.png"/><Relationship Id="rId70" Type="http://schemas.openxmlformats.org/officeDocument/2006/relationships/slide" Target="slide62.xml"/><Relationship Id="rId71" Type="http://schemas.openxmlformats.org/officeDocument/2006/relationships/image" Target="../media/image3.png"/><Relationship Id="rId72" Type="http://schemas.openxmlformats.org/officeDocument/2006/relationships/image" Target="../media/image2.png"/><Relationship Id="rId73" Type="http://schemas.openxmlformats.org/officeDocument/2006/relationships/slide" Target="slide13.xml"/><Relationship Id="rId74" Type="http://schemas.openxmlformats.org/officeDocument/2006/relationships/image" Target="../media/image3.png"/><Relationship Id="rId75" Type="http://schemas.openxmlformats.org/officeDocument/2006/relationships/image" Target="../media/image2.png"/><Relationship Id="rId76" Type="http://schemas.openxmlformats.org/officeDocument/2006/relationships/slide" Target="slide23.xml"/><Relationship Id="rId77" Type="http://schemas.openxmlformats.org/officeDocument/2006/relationships/image" Target="../media/image3.png"/><Relationship Id="rId78" Type="http://schemas.openxmlformats.org/officeDocument/2006/relationships/image" Target="../media/image2.png"/><Relationship Id="rId79" Type="http://schemas.openxmlformats.org/officeDocument/2006/relationships/slide" Target="slide35.xml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slide" Target="slide44.xml"/><Relationship Id="rId83" Type="http://schemas.openxmlformats.org/officeDocument/2006/relationships/image" Target="../media/image3.png"/><Relationship Id="rId84" Type="http://schemas.openxmlformats.org/officeDocument/2006/relationships/image" Target="../media/image2.png"/><Relationship Id="rId85" Type="http://schemas.openxmlformats.org/officeDocument/2006/relationships/slide" Target="slide54.xml"/><Relationship Id="rId86" Type="http://schemas.openxmlformats.org/officeDocument/2006/relationships/image" Target="../media/image3.png"/><Relationship Id="rId87" Type="http://schemas.openxmlformats.org/officeDocument/2006/relationships/image" Target="../media/image2.png"/><Relationship Id="rId88" Type="http://schemas.openxmlformats.org/officeDocument/2006/relationships/slide" Target="slide64.xml"/><Relationship Id="rId89" Type="http://schemas.openxmlformats.org/officeDocument/2006/relationships/image" Target="../media/image3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4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5.png"/><Relationship Id="rId101" Type="http://schemas.openxmlformats.org/officeDocument/2006/relationships/image" Target="../media/image6.png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millili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ric unit used to measure distance from Birmingham to Tuscalo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kilome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d to measure large volu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ubic meter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ece of equipment used to determine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ipment used to measure a precise volume of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graduated cylin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ipment used to produce a flame using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000" spc="-1" strike="noStrike">
                <a:solidFill>
                  <a:srgbClr val="21b2c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Bunsen Burn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measure and dispense small amounts of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drop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ipment that magnifies nonliving specimens at least 10,000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electron microscop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am conducting a lab that involves chemicals.  I need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safety goggles/glass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had an accident in the lab.  The next step is to 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inform the teac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am soaked in a chemical.  I must 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2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HURRY to safety sho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lp Me - 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smell a chemical I should use 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wafting meth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295280" y="1981080"/>
            <a:ext cx="632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m the nozz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ueeze the han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eep at base from sid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PASS stan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step in scientific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observe and state the probl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hod used by scientists to gather information and answer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cientific meth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hat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hat Can 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se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elp M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vesti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xper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220" descr="TITLE"/>
          <p:cNvPicPr/>
          <p:nvPr/>
        </p:nvPicPr>
        <p:blipFill>
          <a:blip r:embed="rId101"/>
          <a:stretch/>
        </p:blipFill>
        <p:spPr>
          <a:xfrm>
            <a:off x="2666880" y="228600"/>
            <a:ext cx="36784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is a hypothesis use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hen it can be tes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hypothesis is based on 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rior knowledge or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pted as true.  Data proven many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theo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ing the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experi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 for comparison; it is kept the same during an experi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ntrol group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-53352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d to express measurements For example: (cm, mL, 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ange made during an experi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independent variab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asured in an exper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dependent variab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endent variables depend on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independent variab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ree types of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line, pie, and bar gra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ws change over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ine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Uni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es more than one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bar gra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nents must equal 10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ircle or Pie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played on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a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LP ME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65120" y="64008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371600" y="295596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heat a test tube over an open flame, one should hold the test tu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371600" y="295596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t an angle away from peo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000" y="6400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e units used in SI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Meter, Gram, and Li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ubic centimeter equals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UATiM</cp:lastModifiedBy>
  <dcterms:modified xsi:type="dcterms:W3CDTF">2010-02-25T20:57:54Z</dcterms:modified>
  <cp:revision>66</cp:revision>
  <dc:subject/>
  <dc:title>No Slide Title</dc:title>
</cp:coreProperties>
</file>